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740-3A65-4AF3-B670-EDE3930F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280-1F21-455D-8627-28B714FA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A23-51EE-4E20-888F-3A451B0E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C34-C02F-424F-B230-EDF401C4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9604-3057-4C60-AE84-0CADA4A5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9515-5BB5-437C-885D-AAA44CD3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6C0D-B0C9-494A-BE1E-B459B4B9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3F2A-FEFE-4607-BE52-5B02B70C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1BCE-C6C7-46A7-916B-48CA86B3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B9C9-CE13-40A8-8002-DE94FF59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B74D-C45F-4BFC-912E-C565A86E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EFB-F88B-4043-8EB9-D53900F5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9297-1EA2-4156-82F6-D0399D2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B649-4E2B-4193-A150-3A46811B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608F-4729-4743-90E2-69D2E800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D534-4E1A-443B-98CE-648B748B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F87F-87F3-4282-8A81-C7DF70E8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A12B-A2A3-42E7-BA8E-6F9B87A1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EE43-1314-4977-935A-A79FAD5C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4C26-722F-4F3A-9F17-E972F702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0A1F-DCB9-4056-B30E-CC060C2B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8AA2-CF07-4301-A30C-A12F8507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BE6-CC0B-4A83-8540-3BA4F9BC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B082-1915-412F-8BD6-DC720984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56A5-FB13-494A-914C-E5DBEB3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CDA0E-52E8-4FB1-96BE-4A5DEAF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3F2D-FE21-4C19-8F90-62D551EB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0D46-FFDF-41F4-ADD2-B9FC9340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B9E6-AFA0-44F1-AACE-08114D4F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A1D91-F598-44FB-8E4F-65D84B25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35AD-5429-4C5C-9FD7-03101013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0454-85DC-47B1-9C8B-4BE6BBB6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3EC1-9EAD-4A32-947F-65F49244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0C6-9648-443C-B21F-AF56A30E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91CE0-8C24-4AD2-A4AD-6FD68DDF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983BA-5A32-42D3-A59F-8C6439B5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DFACB-4F2D-4982-AE44-D3191687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709E-EE38-4DB6-9A25-51F532D4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1371B-CEF5-4650-B5EC-83CB908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857C-2625-4664-8C88-8251B1D8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78E97-C791-4580-A92F-DDF4A199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F2641-7E84-4A1F-A22A-82EE1270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956C-54A9-4476-9448-E3011968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1AC29-A960-41EB-B110-D7538503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107-0597-4712-9064-E7B1D292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7B121-8A58-4D03-9B50-F315E47B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02860-7CA7-4834-B87E-232F8948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578F6-CB84-47DE-BBAF-291FE3A1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3CA2E-72EA-407E-AAF8-CF32BC33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8C550-E6EC-4684-A800-8669AFEB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46F3-4314-4F3D-8C6C-B1EACC52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9A9C5-87C8-41B5-BBFF-B5B7A0CA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A2EE8-972C-4339-B129-41DCCD04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7681B-E7AD-40F4-B279-5DB5C1C6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79DEA-1A8C-4EBC-A26C-78DBF390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C70-863A-4DE2-8338-B28ABCDD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B58E4-D4F2-4FA1-9051-65F33567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AB9F6-E066-492B-A547-824477A2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FFF97-3AF8-4593-B012-C8046BD1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1368-3286-44A2-941C-42DC7FDA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F6BA1-09E2-4EF8-AC94-CECC3D18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93C7C-83DB-4E53-9832-1B327EA5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934DD-DAF4-4378-AB56-82B303E4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545A2-E68D-43D0-B001-FB108520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BCE9B-156A-4E87-9402-B0F11D9D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3D340-B949-42BC-AC2B-563752D2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CBA-C29E-478D-91C3-32FDE3BD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F591C-1A63-433C-8612-FC9D05E8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539E9-6423-472D-A241-31CD4C23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6C77C-6ECF-4DDF-AC27-C01A47CF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7DF-CBB0-4EA7-85E2-C8D65361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4FB-2FCF-433B-BF9A-6754F1B2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6784-6C8B-4A9B-91B5-CE5E665B7044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1880" y="0"/>
                <a:ext cx="1823760" cy="4941720"/>
              </a:xfrm>
              <a:prstGeom prst="rect">
                <a:avLst/>
              </a:prstGeom>
              <a:solidFill>
                <a:srgbClr val="d2d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9800"/>
                <a:ext cx="9144000" cy="287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4E76-61CA-4520-9394-3D577F31FAFB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628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14040" y="2517480"/>
              <a:ext cx="7329960" cy="37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5E87-7839-4F5E-A95E-68E65655A8CB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1880" y="0"/>
              <a:ext cx="1823760" cy="82332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06160" y="205560"/>
              <a:ext cx="83592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37C8-4B60-484B-A346-D37C36DABFC1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0760" y="205560"/>
              <a:ext cx="82728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4199-7F1E-46F1-A1FE-74B839B5C5F6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7720" y="0"/>
              <a:ext cx="1826280" cy="68580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772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1236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057E-E5C0-4431-AA57-EC867E109581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3" descr=""/>
          <p:cNvPicPr/>
          <p:nvPr/>
        </p:nvPicPr>
        <p:blipFill>
          <a:blip r:embed="rId1"/>
          <a:stretch/>
        </p:blipFill>
        <p:spPr>
          <a:xfrm>
            <a:off x="1889280" y="5870520"/>
            <a:ext cx="6584760" cy="493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 u="sng">
                <a:solidFill>
                  <a:srgbClr val="000000"/>
                </a:solidFill>
                <a:uFillTx/>
                <a:latin typeface="Trebuchet MS"/>
              </a:rPr>
              <a:t>UN MONDE EN CHANGEMEN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rebuchet MS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 monde a toujours changé. Tu sais que tes parents et tes grands parents vivaient différemment quand ils avaient ton â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1.  Dans la vie, qu’est ce qui change avec le temp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2. Qu’est ce qui ne change pa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3. Quels pouvoirs les gens ont-ils pour transformer le monde ou qu’est-ce qu’on peut faire pour évoquer les changement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’AUTONOMIS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 ce que c’est l’autonomisatio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orsque les gens sont l’autonomes, ils peuvent faire des choix et transformer le monde s’ils croient qu’un changement est nécessai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Avec l'âge,  tu deviens de plus en plus autonome. Ça veut dire que vous avez plus de pouvoir et de contrôle sur votre propre v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4. Écrire 3 choses que vous désirez changer dans la vie ou dans votre vie mainten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Organization Chart 7"/>
          <p:cNvGrpSpPr/>
          <p:nvPr/>
        </p:nvGrpSpPr>
        <p:grpSpPr>
          <a:xfrm>
            <a:off x="533520" y="2057400"/>
            <a:ext cx="8228880" cy="4341960"/>
            <a:chOff x="533520" y="2057400"/>
            <a:chExt cx="8228880" cy="4341960"/>
          </a:xfrm>
        </p:grpSpPr>
        <p:cxnSp>
          <p:nvCxnSpPr>
            <p:cNvPr id="280" name="_s1028"/>
            <p:cNvCxnSpPr>
              <a:stCxn id="281" idx="0"/>
              <a:endCxn id="282" idx="2"/>
            </p:cNvCxnSpPr>
            <p:nvPr/>
          </p:nvCxnSpPr>
          <p:spPr>
            <a:xfrm flipV="1" rot="16200000">
              <a:off x="5653440" y="2787480"/>
              <a:ext cx="869040" cy="2880720"/>
            </a:xfrm>
            <a:prstGeom prst="bentConnector3">
              <a:avLst>
                <a:gd name="adj1" fmla="val 131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_s1029"/>
            <p:cNvCxnSpPr>
              <a:stCxn id="284" idx="0"/>
              <a:endCxn id="282" idx="2"/>
            </p:cNvCxnSpPr>
            <p:nvPr/>
          </p:nvCxnSpPr>
          <p:spPr>
            <a:xfrm flipV="1">
              <a:off x="4647600" y="3793680"/>
              <a:ext cx="3240" cy="86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1030"/>
            <p:cNvCxnSpPr>
              <a:stCxn id="286" idx="0"/>
              <a:endCxn id="282" idx="2"/>
            </p:cNvCxnSpPr>
            <p:nvPr/>
          </p:nvCxnSpPr>
          <p:spPr>
            <a:xfrm flipH="1" flipV="1" rot="5400000">
              <a:off x="2773080" y="2787840"/>
              <a:ext cx="869040" cy="2880720"/>
            </a:xfrm>
            <a:prstGeom prst="bentConnector3">
              <a:avLst>
                <a:gd name="adj1" fmla="val 131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2" name="_s1031"/>
            <p:cNvSpPr/>
            <p:nvPr/>
          </p:nvSpPr>
          <p:spPr>
            <a:xfrm>
              <a:off x="3413520" y="205740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’autonomis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>
              <a:off x="53352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voir du pouvoi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033"/>
            <p:cNvSpPr/>
            <p:nvPr/>
          </p:nvSpPr>
          <p:spPr>
            <a:xfrm>
              <a:off x="341352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endre se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opres décisi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034"/>
            <p:cNvSpPr/>
            <p:nvPr/>
          </p:nvSpPr>
          <p:spPr>
            <a:xfrm>
              <a:off x="629388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e sentir puissan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3" descr="C:\Users\Michelle.Skead\AppData\Local\Microsoft\Windows\Temporary Internet Files\Content.IE5\ZFX8F7J5\MC900441310[1].png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2"/>
          <p:cNvSpPr/>
          <p:nvPr/>
        </p:nvSpPr>
        <p:spPr>
          <a:xfrm>
            <a:off x="2133720" y="7621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5. Copiez la gril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RITÉ ET LE POUVOIR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s gens autonomes se sentent qu’ils contrôlent facilement leur v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s peuvent faire des choix importants, comme choisir une profession ou un lieu de réside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s ont l’autorité de prendre des décisions importantes et le pouvoir de les mettre en applic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’AUTORITÉ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’autorité donne le droit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une personne de prendre des décisions dans une situation préc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Dans notre vie, il y a des gens qui ont l’autorité de prendre des décisions pour no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4" descr="MCj03596510000[1]"/>
          <p:cNvPicPr/>
          <p:nvPr/>
        </p:nvPicPr>
        <p:blipFill>
          <a:blip r:embed="rId1"/>
          <a:stretch/>
        </p:blipFill>
        <p:spPr>
          <a:xfrm>
            <a:off x="4114800" y="4572000"/>
            <a:ext cx="1587600" cy="190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Users\Michelle.Skead\AppData\Local\Microsoft\Windows\Temporary Internet Files\Content.IE5\ZFX8F7J5\MC900441310[1].png"/>
          <p:cNvPicPr/>
          <p:nvPr/>
        </p:nvPicPr>
        <p:blipFill>
          <a:blip r:embed="rId2"/>
          <a:stretch/>
        </p:blipFill>
        <p:spPr>
          <a:xfrm>
            <a:off x="30492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rebuchet MS"/>
              </a:rPr>
              <a:t>6. FAIS UNE CHAINE DE COMMANDE AVEC TON NOM AU MILIEU. QUI A L’AUTORITÉ DANS VOTRE VIE? INCLURE AU MOINS 10!!</a:t>
            </a:r>
            <a:r>
              <a:rPr b="0" lang="fr-CA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r-CA" sz="1200" spc="-1" strike="noStrike">
                <a:solidFill>
                  <a:srgbClr val="000000"/>
                </a:solidFill>
                <a:latin typeface="Trebuchet MS"/>
              </a:rPr>
              <a:t>(J`AI FAIT MA CHAINE DE COMMANDE POUR VOUS DONNER UNE EXEMPLE.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457200" y="2279520"/>
            <a:ext cx="8686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3:44:06Z</dcterms:created>
  <dc:creator>Administrator</dc:creator>
  <dc:description/>
  <dc:language>en-US</dc:language>
  <cp:lastModifiedBy>ED18</cp:lastModifiedBy>
  <dcterms:modified xsi:type="dcterms:W3CDTF">2014-11-17T14:05:56Z</dcterms:modified>
  <cp:revision>38</cp:revision>
  <dc:subject/>
  <dc:title>Un monde en changement</dc:title>
</cp:coreProperties>
</file>